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0A2-1635-45EE-930B-2623D64B9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clearly expressed relations of parthood, adjacency etc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2A6-5D4C-4DD2-A1C3-65F37D14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CB9-0408-4AFA-B2A7-F183D07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E25-283C-4685-BA2C-661674E3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0E5-4FFE-44D2-893C-5A79872D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F0F-20D1-4CC4-977E-990CBB7F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5A9-8A27-43D4-B80D-75D4A57E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F47-30CD-48C4-A5BC-6D45E5EF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172-4413-4144-880D-DB25851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A05-42B0-45A6-BCEF-0B689E0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D52-5A5F-42C4-B7A3-DE1E6C1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C6C-886D-4A2E-874D-E49CABB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B6E-5340-498C-B918-30049E1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D011-D5F6-4F4E-BCD7-5FF3D121F10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reate new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sualizations fo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ime course dat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kr</cp:lastModifiedBy>
  <dcterms:modified xsi:type="dcterms:W3CDTF">2005-11-04T05:15:02Z</dcterms:modified>
  <cp:revision>38</cp:revision>
  <dc:subject/>
  <dc:title>PowerPoint Presentation</dc:title>
</cp:coreProperties>
</file>